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827-C437-4B54-9B95-91EE106E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2CA-805E-467C-A3BA-4CE36C21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9EA-D7DC-43D9-A7D0-864F1066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C0F-CD73-4209-BAB2-DB2F69DD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CA12-ABEB-440F-B560-A07AEB53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D357-5B0D-48E7-AA01-44B93055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19B8-4841-4419-ADC6-A4B45CA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ADFB-BF7A-483A-93E3-DC50CB52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572A-FE87-4645-B41B-056C1CD0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7DF5-529D-4F74-A0BE-082A0547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C791-6328-4B05-A580-F5524A77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D22-D0E3-4963-9FDA-AF80581E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88DC-9874-49C9-B45D-182AE17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D9C4-9BF8-4CCE-85FD-4A1C36A2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1A9A-3118-4BE0-8E69-757CD16E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0784-BFFD-468C-9167-09CD5532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478B-0B76-4AC8-91C0-99E78C63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14C-0DF1-4C84-A8E0-003E75D8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B79-258C-462C-AC76-7CDBD744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E77-98EF-4702-ABC2-693A1176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2D4-046D-44BB-BEEB-E70F1753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04E-B827-4B46-A89F-6DDCC36A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44B-D4A9-429E-872A-E9FCE341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A1A-ECC0-47B3-AF5D-89334571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319A-2045-4517-A500-5E81EE70A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F60B-99DE-488E-8902-85BB98AF1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1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utbol catologo 2012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reg and Daks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28191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jamas de futbo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ijamas de futbol. Es colores en azul, blanco y negro. Cuasta 20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1638360" cy="2895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886200" y="3581280"/>
            <a:ext cx="13320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257800" y="3429000"/>
            <a:ext cx="3124080" cy="2550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1981080" y="3505320"/>
            <a:ext cx="1917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cartera y sandalia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carteras de futbol. Son de arsenal y FCB .multiple sandalias de futbol. Son de adi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296040" y="3657600"/>
            <a:ext cx="2847960" cy="2065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114800" y="365760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ones y reloj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reloj son de MLS. Uno mitones de futbol. Son de N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86000" y="3352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781680" y="335268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Biletes locales de ML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quetes de jue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gland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game                2 games         3 game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 pesos             60 pesos         10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00400" y="4419720"/>
            <a:ext cx="2847960" cy="1609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5530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791320" y="228600"/>
            <a:ext cx="2095560" cy="1173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67480" y="1600200"/>
            <a:ext cx="1220760" cy="1628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838080" y="1523880"/>
            <a:ext cx="12067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na zapato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o messi lleva azul Adidas tacos de futbol. Los tacos cuatsta 16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18320" y="5562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365760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400800" y="3276720"/>
            <a:ext cx="2209680" cy="266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3520" y="2895480"/>
            <a:ext cx="1361880" cy="1381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miseta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camisetas de futbol. Son de Chivas USA, New england Revolution y FCB. Cuasta 50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276200" cy="1343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5105520"/>
            <a:ext cx="1695600" cy="1009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133720" y="5105520"/>
            <a:ext cx="2124000" cy="99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858000" y="4724280"/>
            <a:ext cx="1790640" cy="1381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572000" y="4267080"/>
            <a:ext cx="2247840" cy="1791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80880" y="388620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2057400" y="3886200"/>
            <a:ext cx="2286000" cy="1247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lcetine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iple calcentines de futbol. Son de LA Galaxy (David Beckham). Colores en verde y blanco. Cuasta 3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33720" y="365760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3009960" cy="243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ntalones corte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 panatlones cortes de futbol. Son de BPL. Cuasta 45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4038480" cy="2747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5880" y="3581280"/>
            <a:ext cx="2772000" cy="212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419720" y="3581280"/>
            <a:ext cx="16761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lon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balons de futbol. Son de MLS y BPL. cuatsa 2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943600" y="373392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410080" y="304920"/>
            <a:ext cx="1562400" cy="1352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971800" y="3657600"/>
            <a:ext cx="1514520" cy="201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419720" y="3809880"/>
            <a:ext cx="1628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rras de M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gorras de MLS, San Jose, Chicago y Seatle. Cuasta 15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562720" y="2819520"/>
            <a:ext cx="3314520" cy="2771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28195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eter y guante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de MLS, Brazil y FCB. Cuasta 65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1749600" cy="2332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71800" y="3200400"/>
            <a:ext cx="228456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010280" y="3505320"/>
            <a:ext cx="2019600" cy="2695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28600" y="3809880"/>
            <a:ext cx="2743200" cy="180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fanda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de MLS, multiple bufandas. 35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876920" cy="3711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9920" y="609480"/>
            <a:ext cx="2933640" cy="868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5049720"/>
            <a:ext cx="4191120" cy="960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38080" y="29718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8:00:46Z</dcterms:created>
  <dc:creator>fawkesgre</dc:creator>
  <dc:description/>
  <dc:language>en-US</dc:language>
  <cp:lastModifiedBy>fawkesgre</cp:lastModifiedBy>
  <dcterms:modified xsi:type="dcterms:W3CDTF">2013-01-04T18:01:27Z</dcterms:modified>
  <cp:revision>13</cp:revision>
  <dc:subject/>
  <dc:title>Slide 1</dc:title>
</cp:coreProperties>
</file>